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B71-1756-4DB4-879B-AD0E871E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A17-1528-4DDE-9AC4-F8FA074D8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269-05A5-45B5-A82B-8A793B60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1D3E-BDD2-4603-9585-7DD7BF5F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C739-3BF5-4418-BCD1-25BF4389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DC3B-BA76-4619-BC80-ECD97665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FE36-A6AE-41FE-85B9-54A5E2CF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FA1D-F57C-45AC-9ECF-0C0063CC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B80-443F-4640-BA94-29485C13A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57D7-250C-4F31-920F-66535987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7376-183C-4DEA-8612-037938C7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174-9EC8-45D9-A49C-32A4CBF6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DCED-174A-458A-B874-39E27CAA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7297-60F1-43A8-942E-4147E997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15C-6076-4F9D-979E-83400D77F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4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7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433480" y="954000"/>
            <a:ext cx="28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Resourc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5430240" y="2521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433480" y="292752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6126120" y="4462560"/>
            <a:ext cx="2212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8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9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bjectives: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upply and demand orally and with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how supply and demand affect prices of product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:  How does supply and demand affect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nsumers set demand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41" name="Picture 3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quantity of a good or service that businesses are willing and able to provide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840" y="200664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nsumer wants a product/service and is willing to pay more money for i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ck yeah! They are going to supply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– DVD’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fig"/>
          <p:cNvPicPr/>
          <p:nvPr/>
        </p:nvPicPr>
        <p:blipFill>
          <a:blip r:embed="rId1"/>
          <a:stretch/>
        </p:blipFill>
        <p:spPr>
          <a:xfrm>
            <a:off x="665280" y="2004840"/>
            <a:ext cx="8478720" cy="387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2040" y="1345680"/>
            <a:ext cx="551664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Supply, Demand, and Equilibrium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64960" y="1303200"/>
            <a:ext cx="142272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19040" y="3333600"/>
            <a:ext cx="2438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Supply curve is always upward slo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u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y –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UP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Supply and price – think in terms of a producer </a:t>
            </a:r>
            <a:endParaRPr b="1" lang="en-US" sz="28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4480" y="190008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 of a product increases, the supply will increase because the supplies will make more m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22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    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504800" y="3352680"/>
            <a:ext cx="762120" cy="1086120"/>
          </a:xfrm>
          <a:prstGeom prst="upArrow">
            <a:avLst>
              <a:gd name="adj1" fmla="val 50000"/>
              <a:gd name="adj2" fmla="val 356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161880" y="4695840"/>
            <a:ext cx="762120" cy="1085760"/>
          </a:xfrm>
          <a:prstGeom prst="upArrow">
            <a:avLst>
              <a:gd name="adj1" fmla="val 50000"/>
              <a:gd name="adj2" fmla="val 35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 rot="10800000">
            <a:off x="1504440" y="4695840"/>
            <a:ext cx="762120" cy="1085760"/>
          </a:xfrm>
          <a:prstGeom prst="upArrow">
            <a:avLst>
              <a:gd name="adj1" fmla="val 50000"/>
              <a:gd name="adj2" fmla="val 35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162240" y="3362400"/>
            <a:ext cx="762120" cy="1085760"/>
          </a:xfrm>
          <a:prstGeom prst="upArrow">
            <a:avLst>
              <a:gd name="adj1" fmla="val 50000"/>
              <a:gd name="adj2" fmla="val 356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etermining Price – pg 25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see a bunch of products that will satisfy our want/need, demand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can’t find a good substitute for a product we want, demand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etermining Price – pg 25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influenc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of a product affects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west had a drought, supply of corn i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it affect supply and pr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think of an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termining Market Pri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5880" y="210168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determin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arket pr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product or servi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termining Market Pri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61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Market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 where supply and demand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495360" y="2184480"/>
            <a:ext cx="390852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2040" y="1345680"/>
            <a:ext cx="551664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Supply, Demand, and Equilibrium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264960" y="1303200"/>
            <a:ext cx="142272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fig"/>
          <p:cNvPicPr/>
          <p:nvPr/>
        </p:nvPicPr>
        <p:blipFill>
          <a:blip r:embed="rId1"/>
          <a:stretch/>
        </p:blipFill>
        <p:spPr>
          <a:xfrm>
            <a:off x="447840" y="1947960"/>
            <a:ext cx="8416800" cy="3841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257640" y="1809720"/>
            <a:ext cx="12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8210520" y="21528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4971960" y="1981080"/>
            <a:ext cx="1486080" cy="1771920"/>
            <a:chOff x="4971960" y="1981080"/>
            <a:chExt cx="1486080" cy="1771920"/>
          </a:xfrm>
        </p:grpSpPr>
        <p:sp>
          <p:nvSpPr>
            <p:cNvPr id="170" name="Text Box 8"/>
            <p:cNvSpPr/>
            <p:nvPr/>
          </p:nvSpPr>
          <p:spPr>
            <a:xfrm>
              <a:off x="4971960" y="1981080"/>
              <a:ext cx="14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’s this called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 flipH="1">
              <a:off x="5581440" y="2514600"/>
              <a:ext cx="323640" cy="12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0"/>
          <p:cNvSpPr/>
          <p:nvPr/>
        </p:nvSpPr>
        <p:spPr>
          <a:xfrm>
            <a:off x="4724280" y="443880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rke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The demand curve slopes which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965160" y="370512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Down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The supply curve slopes which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65160" y="3705120"/>
            <a:ext cx="71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articipating in a Market Economy (USA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arket economy, buyers and sellers use the marketplace to make economic deci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decisions are made by consumers—including me and you, businesses and gov’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articipating in a market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vidual buying decisions of consumers (me and you) have a tremendous influence on the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 who buys and uses goods an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are all consumer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articipating in a market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rs pay close attention to the needs and activities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du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y decide what products to s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$$$$$$$$$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932360" y="2575080"/>
            <a:ext cx="38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nd organizations that determine what products and services will be available for sa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A bit confusing, eh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usinesses can produce and sell whatever they want at whatever pric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, as consumers, can buy whatever we want at prices we want to spend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n’t this be one big messed up system?  How could producers and consumers ever ag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000"/>
                </a:solidFill>
                <a:latin typeface="Arial"/>
              </a:rPr>
              <a:t>NO!  That’s where the theory of Supply and Demand comes to the rescue!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nsumers set demand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24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f a good or service that consumers are willing and able to buy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9840" y="200664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ol dem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nsumers don’t want to buy a product, the demand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 – New DVD in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>
            <a:off x="3099960" y="4017960"/>
            <a:ext cx="4680" cy="833400"/>
          </a:xfrm>
          <a:prstGeom prst="line">
            <a:avLst/>
          </a:prstGeom>
          <a:ln w="193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emand and pric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4480" y="1739520"/>
            <a:ext cx="86691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ice increases the demand will decrease because people will buy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24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24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       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47880" y="3009960"/>
            <a:ext cx="762120" cy="1276200"/>
          </a:xfrm>
          <a:prstGeom prst="upArrow">
            <a:avLst>
              <a:gd name="adj1" fmla="val 50000"/>
              <a:gd name="adj2" fmla="val 418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962520" y="4381560"/>
            <a:ext cx="761760" cy="1276200"/>
          </a:xfrm>
          <a:prstGeom prst="upArrow">
            <a:avLst>
              <a:gd name="adj1" fmla="val 50000"/>
              <a:gd name="adj2" fmla="val 418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 rot="10800000">
            <a:off x="1847520" y="4514400"/>
            <a:ext cx="762120" cy="1143000"/>
          </a:xfrm>
          <a:prstGeom prst="upArrow">
            <a:avLst>
              <a:gd name="adj1" fmla="val 50000"/>
              <a:gd name="adj2" fmla="val 374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 rot="10800000">
            <a:off x="3962520" y="3114360"/>
            <a:ext cx="761760" cy="1066680"/>
          </a:xfrm>
          <a:prstGeom prst="upArrow">
            <a:avLst>
              <a:gd name="adj1" fmla="val 50000"/>
              <a:gd name="adj2" fmla="val 350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1680" y="1346040"/>
            <a:ext cx="5878440" cy="7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Supply, Demand, and Market Price*</a:t>
            </a:r>
            <a:br>
              <a:rPr sz="2400"/>
            </a:b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raw an example of this in your notes!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4960" y="1303200"/>
            <a:ext cx="142272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Figure 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fig"/>
          <p:cNvPicPr/>
          <p:nvPr/>
        </p:nvPicPr>
        <p:blipFill>
          <a:blip r:embed="rId1"/>
          <a:stretch/>
        </p:blipFill>
        <p:spPr>
          <a:xfrm>
            <a:off x="428760" y="2052720"/>
            <a:ext cx="8332560" cy="3803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"/>
          <p:cNvSpPr/>
          <p:nvPr/>
        </p:nvSpPr>
        <p:spPr>
          <a:xfrm>
            <a:off x="266760" y="3029040"/>
            <a:ext cx="2781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curve is always sloping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n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roducers establish Supply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demand tells a business what type and what quantity of products and servic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h.  A good business obviously isn’t going to keep producing a good/service that isn’t in demand anymo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0000"/>
                </a:solidFill>
                <a:latin typeface="Arial"/>
              </a:rPr>
              <a:t>Ex – silly bands will soon fade away like dust in the wind (pretty much already h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09-24T19:30:54Z</dcterms:modified>
  <cp:revision>70</cp:revision>
  <dc:subject/>
  <dc:title>Slide 1</dc:title>
</cp:coreProperties>
</file>